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EBED-D4B4-4CCC-9576-1C7588F7244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01EF-EB66-432D-8F5F-28061E45573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E65A-4FBC-4BA2-9F90-D83FEA57C82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8E6D-48EB-47B7-9E4B-3185F351B2B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B2D9-3C26-4C94-9EC6-04914D60C10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32E1-E180-4291-9E12-1042FFD6098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8A68-130A-4FAE-A1C6-BDFDBBFE54D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E335-1C97-4444-8526-D89FC3E5CE8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60BD-5C57-4647-BACF-1F5714B60BD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B5C3-A1DB-488F-9737-DAE7D8AD8F2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39DC-32C7-4E77-AB12-D9CABF60FAB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0862-D2CD-4948-9139-FFA9E4F8674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914B-06C3-44F0-8B91-8A9EA46E9BC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B6AF-2B75-4760-BD73-CECE4EFE75C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491B-867C-4074-973D-0DE49A56654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B60F-6F1B-48BD-951E-21EFD1BCD2A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0BBB-FC90-44C9-9337-4F9A5DDF309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5040-D75A-42CE-BCCB-48B5663D5DC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AE02-EB84-4456-BE7C-B0EBD99D137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588C-E66B-4602-9F2B-972CDC95445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694B-049E-4E84-AC18-D36A150E20C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43D0-FD8F-4EE5-ABF6-15A0FF3D4B2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1FB2-7977-4948-8486-07EBA6BA1E6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FF00-38C6-4854-80E0-A62DD58F84D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65EC-F98A-4157-816B-D3D6B6E49CA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2602-88A0-49C9-B7BB-9345906334D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493E-16EA-469A-9D9D-6679AB173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78B7-029F-4870-B3EB-D302B9FE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2AB8-FE7F-42DB-8C5B-9FBCF98D8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8B05-5E92-40E4-8687-99E071C0C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14D6-BFE5-44DC-BB8D-E7680DAE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3C8A-9D5E-421E-858D-78C2959C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404E-D97D-42B4-9CCD-3FC44E46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55C5-7D2C-4986-A7B0-1BF1F212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AA7C-BB39-4117-A143-731247DC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7427-240C-4A2A-B63E-490AFA5A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F060-143E-4B1D-93CC-FFE7DD5B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6580-81EE-4B8D-997D-5EA1DB60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B1AE-0F3E-4D95-BA04-F75AF299454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20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d3673"/>
                </a:solidFill>
                <a:latin typeface="Arial"/>
              </a:rPr>
              <a:t>Seminář pro příjemce OP LZZ</a:t>
            </a:r>
            <a:br>
              <a:rPr sz="3600"/>
            </a:br>
            <a:r>
              <a:rPr b="1" lang="cs-CZ" sz="3600" spc="-1" strike="noStrike">
                <a:solidFill>
                  <a:srgbClr val="0d3673"/>
                </a:solidFill>
                <a:latin typeface="Arial"/>
              </a:rPr>
              <a:t>Výzva č. 77 a 8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11. 12. 2012 Pra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Údaje o projektu a monitorovací zprá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Registrační číslo a název projektu, číslo MZ, datum jejího vypracování, Hash MZ v Benefit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d367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Údaje o příjemci a zhotoviteli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ázev Příjemce, IČ, statutární zástupce, jméno, příjmení</a:t>
            </a:r>
            <a:br>
              <a:rPr sz="2200"/>
            </a:b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a kontaktní údaje zhotovitele zpráv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d3673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Realizované klíčové aktivity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Číslo, název, období realizace klíčové aktivity</a:t>
            </a:r>
            <a:br>
              <a:rPr sz="2200"/>
            </a:b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a popis realizované klíčové aktiv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4.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roblémy při realiza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Popis problémů při realizaci projektu a jejich řešení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5.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Nepodstatné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 změny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Popis případných formálních a věcných změn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a změn v rozpočt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6.   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měny projektu podle bodu 15 části II Rozhodnutí o poskytnutí do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Změny ve způsobu provádění klíčových aktivit a klíčových pozic realizačního týmu – v případě, že bod 15 části II Rozhodnutí se odkazuje na klíčové aktivity a realizační tý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7. Podstatné změny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pis případných podstatných změn ve sledovaném období, zda byly odsouhlaseny a čeho se týk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8. Další informace o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9. Kontroly na mís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Vyplňuje se pouze v případě, že byla provedena kontrola na Vašem projektu </a:t>
            </a:r>
            <a:r>
              <a:rPr b="1" lang="en-US" sz="2200" spc="-1" strike="noStrike">
                <a:solidFill>
                  <a:srgbClr val="0d3673"/>
                </a:solidFill>
                <a:latin typeface="Arial"/>
                <a:ea typeface="Arial"/>
              </a:rPr>
              <a:t>jiným subjektem, než poskytovatelem podpory (např. NKÚ, EK, FÚ, atd.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B2 Čestné prohlášení příjemce podp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dpis statutárního zástupce nebo oprávněné oso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Přílohy monitorovací 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68360" y="1197000"/>
          <a:ext cx="8207280" cy="5075280"/>
        </p:xfrm>
        <a:graphic>
          <a:graphicData uri="http://schemas.openxmlformats.org/drawingml/2006/table">
            <a:tbl>
              <a:tblPr/>
              <a:tblGrid>
                <a:gridCol w="574560"/>
                <a:gridCol w="4321080"/>
                <a:gridCol w="1656000"/>
                <a:gridCol w="1655640"/>
              </a:tblGrid>
              <a:tr h="37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dok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oč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vz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odpisové vz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Soupiska účetních doklad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Kopie účetních dokladů nad 10 tis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kop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racovní výkaz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Rozpis mzdových náklad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Rozpis cestovních náhr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Odpis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Výpisy z bank. úč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kop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řehled čerpá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Auditorská zpráva </a:t>
                      </a:r>
                      <a:r>
                        <a:rPr b="1" lang="cs-CZ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(pouze pokud je povinnost provést audit stanovená v Rozhodnutí o poskytnutí dotac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Další přílohy – např. prezenční listiny, programy akcí, letáky, inzeráty, tisk. zprávy, publikace a jiné výstupy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 nebo kop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026"/>
          <p:cNvSpPr/>
          <p:nvPr/>
        </p:nvSpPr>
        <p:spPr>
          <a:xfrm>
            <a:off x="539640" y="242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Změny v projekt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d1131c"/>
                </a:solidFill>
                <a:latin typeface="Arial"/>
                <a:ea typeface="Arial"/>
              </a:rPr>
              <a:t>Druhy změn v projektec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Ne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říklady těchto změn v Příručce pro příjemce (D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Oznámení změny: v nejbližší M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Účinnost změny: od jejího vznik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říklady těchto změn v Příručce pro příjemce (D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Oznámení změny: žádostí o podstatnou změnu v tištěné a elektronické podobě (formulář ke stažení na www.esfcr.cz/file/7588 )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Účinnost změny: schválením této žádosti, tj. datem podpisu oprávněné osoby poskytovatele podp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13716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Ne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nutné informovat poskytovatele v nejbližší monitorovací zprávě o provedených změnách včetně řádného zdůvodně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Změny formálního a věcného charakter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kontaktních údaj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(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informovat neprodlen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), sídla a statutárního zástupce p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jemce podpo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kontaktní osoby projektu (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informovat neprodlen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y harmonogramu realizace, která neovlivní spln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í cíl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ani monitorovacích indikátor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projektu – doložit v 1.části MZ přepracovaný harmon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uzav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a 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y (formálního charakteru) smluv s partne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auditora (v případě povinnosti provést aud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13716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měny rozpočtu: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vytv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nové pol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ky v rozp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tu / p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p. její vynulování za podmínky,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 neznamená za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átek nové aktivity, resp. zrušení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i ukon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stávající klí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vé ak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výšení jednotkových cen (změna musí být hospodárná, efektiv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přesun prost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dk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mezi jednotlivými kapitolami do výše 15 % objemu původního rozpočtu kapitoly, z níž jsou finanční prostředky přesouvá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Veškeré změny nutné zohlednit ve všech částech MZ a jejích přílohá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Taktéž je nutné se řídit cenami v místě, čase a odvětví obvyklých (dostupné na www.esfcr.cz, součástí výzv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838080" y="981000"/>
            <a:ext cx="7772400" cy="51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ny, které ovlivní cíle, obsah nebo zam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ěř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ení projektu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 zakládají změnu právního aktu, tudíž je potřeba podat žádost o změ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formulář žádosti na www.esfcr.cz/file/7588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Žádost zaslat nejpozději 30 dnů před ukončením realizace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odstatné změny nelze provést před odsouhlasením poskytovatele podp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žádost zaslat v listinné i elektronické podobě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8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762120" y="2362320"/>
            <a:ext cx="6324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4952880" y="220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5720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14407e"/>
                </a:solidFill>
                <a:latin typeface="Arial"/>
              </a:rPr>
              <a:t>       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pokud si příjemce není jistý, zda jeho zamýšlená změna je podstatná, doporučujeme konzultovat s poskytovate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data ukončení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týkající se monitorovacích indikátorů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partne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bankovního účtu organizac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řesun mezi kapitolami vyšší než 15 %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bjemu původního rozpočtu kapitoly, z níž jsou finanční prostředky přesouvány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řesun mezi položkami na neinvestiční a investiční vý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Navýšení či snížení kapitoly křížové financ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právní formy příjemce, sloučení s jinou právnickou osob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ogram seminář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476280"/>
            <a:ext cx="777096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12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Zahájení semináře (9: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Blok 1:  (9:05 – 10:00 )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yplňování MZ a ŽoP v Benefit 7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Přestávka 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(cca 1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: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0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, cca 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10 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minu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Blok 2: (cca 10:10 – 12: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ecné informace k MZ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 metodická čás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měny, nepřímé náklady, partnerství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nitorovací indiká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ubli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ta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Přestávka na oběd ( cca 1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2:0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, cca 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20 - 3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 minu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Blok 3:  ( cca 12:30 – 13:40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inanční část MZ + dotaz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Přestávka ( cca 1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3:4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, cca 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1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 minu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Blok 4: 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(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cca od 13:5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adávání zakázek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+ dota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eřejná podpora - de minim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Závěr semináře (cca 16: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131c"/>
                </a:solidFill>
                <a:latin typeface="Arial"/>
                <a:ea typeface="Arial"/>
              </a:rPr>
              <a:t>Partnerstv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Partnerství (1/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907920"/>
            <a:ext cx="822960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artneři projekt společně vytvářejí – podílejí se na zpracování projektové žádosti, a následně na realizaci věcných projektových aktivit. Jsou to takové aktivity, bez jejichž realizace by nebylo možné zajistit řádné fungování a naplňování cíle projektu, proto je spoluúčast všech </a:t>
            </a:r>
            <a:r>
              <a:rPr b="1" lang="pl-PL" sz="2000" spc="-1" strike="noStrike">
                <a:solidFill>
                  <a:srgbClr val="143f7e"/>
                </a:solidFill>
                <a:latin typeface="Arial"/>
              </a:rPr>
              <a:t>partnerů na projektu podstatná a nezastupiteln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vaha právních vztahů mezi žadatelem a jeho partnery nesmí být založena na poskytování služeb, dodávce zboží atd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Dva typy partnerstv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partner s finančním příspěvkem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– tento typ partnera přijímá prostřednictvím příjemce </a:t>
            </a:r>
            <a:r>
              <a:rPr b="1" lang="pl-PL" sz="2000" spc="-1" strike="noStrike">
                <a:solidFill>
                  <a:srgbClr val="143f7e"/>
                </a:solidFill>
                <a:latin typeface="Arial"/>
              </a:rPr>
              <a:t>část finanční podpory na realizaci věcných projektových aktivi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partner bez finančního příspěvku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– tento typ partnera se podílí na realizaci věcných aktivit projektu, např. formou konzultací, odborné garance apod., ale není mu poskytován </a:t>
            </a:r>
            <a:r>
              <a:rPr b="1" lang="pl-PL" sz="2000" spc="-1" strike="noStrike">
                <a:solidFill>
                  <a:srgbClr val="143f7e"/>
                </a:solidFill>
                <a:latin typeface="Arial"/>
              </a:rPr>
              <a:t>žádný finanční příspěvek za účast na realizaci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Partnerství (2/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76500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mlouva o partnerství s českými partne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mlouva o partnerství musí být předložena nejpozději s 1. průběžnou monitorovací zpráv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Smlouva o partnerství může být uzavřena pouze s partnery, kteří jsou uvedeni v příloze Rozhodnutí o poskytnutí do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edmětem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smlouv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je úprava postavení příjemce a jeho českých partnerů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ymezení aktivit, jimiž se podílejí na projekt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úprava jejich vzájemných práv a povinností při naplňování účelu této smlouv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odpovědnost za porušení této smlouv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působ ukončení spoluprá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očet  (rozdělení </a:t>
            </a:r>
            <a:r>
              <a:rPr b="1" lang="pl-PL" sz="1600" spc="-1" strike="noStrike">
                <a:solidFill>
                  <a:srgbClr val="143f7e"/>
                </a:solidFill>
                <a:latin typeface="Arial"/>
              </a:rPr>
              <a:t>nákladů připadají na příjemce podpory a jaké na jednotlivé partnery) ap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143f7e"/>
                </a:solidFill>
                <a:latin typeface="Arial"/>
              </a:rPr>
              <a:t>Vzor smlouvy </a:t>
            </a:r>
            <a:r>
              <a:rPr b="1" i="1" lang="cs-CZ" sz="1700" spc="-1" strike="noStrike" u="sng">
                <a:solidFill>
                  <a:srgbClr val="000000"/>
                </a:solidFill>
                <a:uFillTx/>
                <a:latin typeface="Arial"/>
              </a:rPr>
              <a:t>http://www.esfcr.cz/07-13/oplzz/dokumenty-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V případě více českých partnerů je smlouva o partnerství smlouvou vícestrannou </a:t>
            </a:r>
            <a:r>
              <a:rPr b="1" lang="pl-PL" sz="1700" spc="-1" strike="noStrike">
                <a:solidFill>
                  <a:srgbClr val="143f7e"/>
                </a:solidFill>
                <a:latin typeface="Arial"/>
              </a:rPr>
              <a:t>mezi příjemcem podpory a všemi jeho partnery – je možné uzavřít pouze jednu smlouvu, pokud je to možné dle záko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cování zahraničních partner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  <a:ea typeface="Arial"/>
              </a:rPr>
              <a:t>Zahraniční partner je vždy partnerem bez finančního příspěv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  <a:ea typeface="Arial"/>
              </a:rPr>
              <a:t>Zahraniční partneři si musí sami zajistit financování aktivit, k jejichž zajištění se zavazují v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Smlouvě o mezinárodní spoluprá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(kromě zdrojů z ESF i jiné zdroje financování, např. vlastní zdroje, národní financování nebo jiný druh financování z rozpočtu EU)</a:t>
            </a: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Zdroje financování zahraniční partner už dále nedoklád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Výjimka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– způsobilými výdaji mohou být výdaje na cestovné, ubytování a stravu (</a:t>
            </a:r>
            <a:r>
              <a:rPr b="1" lang="cs-CZ" sz="1800" spc="-1" strike="noStrike">
                <a:solidFill>
                  <a:srgbClr val="d1131c"/>
                </a:solidFill>
                <a:latin typeface="Arial"/>
              </a:rPr>
              <a:t>Per-diems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) v případě, že zahraniční partner např. prezentuje na mezinárodní konferenci v ČR nebo jiným způsobem předává zkušenosti partnerům v ČR, podrobněji viz Metodika způsobilých výdajů OP LZZ (D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    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Neplnění závazků /odstoupení zahraničního partnera u projektů v        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oblasti podpory 5.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143f7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dstatná změna projektu, musí být schvá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143f7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souzení další smysluplnosti a realizovatelnosti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143f7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odstoupení zahraničního partnera = ukončení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áklady, které  nejsou nebo nemohou být přímo spojené s konkrétní aktivitou daného projek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Zahrnují náklady spojené s administrací projektu či vznikající při běžné činnosti organizace při práci s cílovou skupinou příjemce nebo českého partne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esmí být zaúčtovány společně s přímými nákla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Sazba nepřímých nákladů je vyjádřena % jehož výši naleznete v Rozhodnutí o poskytnutí dotace v Část II Povinnosti příjemce dotace bod 6.2.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roplaceny postupně ve výši % podílu ze skutečně vynaložených a prokázaných přímých nákladů projektu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ymezení nepřímých nákladů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(metodika D5 bod 2.7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Vedení účetnictví vč. mezd pracov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Kopírování, t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Oprava a údržba zařízení a vybavení a nemovit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Zajištění publicity pomoci z ESF (povinné minimum public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Nákup spotřebního a kancelářského materiá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Bankovní poplat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Energie, vodné, stočné v prostorech kanceláře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Ostraha a  pojištění majetku využívaného k realizaci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Cestovní náhrady spojené s vnitrostátními pracovními cest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Obecné informace k M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Typy monitorovacích zprá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05920" cy="37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Průběžná monitorovací zprá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Mimořádná monitorovací zprá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Závěrečná monitorovací zprá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Podrobnější informace o monitorovacích zprávách naleznete v příručkách – D2 (kapitola 14.) a D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Předkládání monitorovacích zprá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9280" y="112536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Předkládání MZ je dáno bodem 5.3 části II Rozhodnutí o poskytnutí dotace a Příručkou pro příjemce (D2) a Pokyny pro vyplnění MZ (D10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1. Průběžná monitorovací zpráv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Výzva č. 77 (3.kolo)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za období prvních 4 měsíců realizace projektu (1. – 4. měsíc), předkládá se do 15-ti kalendářních dnů od ukončeného monitorovacího obdob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Výzva č. 88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za období prvních 3 měsíců realizace projektu (1. – 3. měsíc), předkládá se do 15-ti kalendářních dnů od ukončeného monitorovacího obdob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2. Průběžná monitorovací zpráv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 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Výzva č. 77 (3.kolo)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za období dalších 3 měsíců realizace projektu (5. - 7. měsíc), předkládá se do 15-ti kalendářních dnů od ukončeného monitorovacího období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 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Výzva č. 88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za období prvních 3 měsíců realizace projektu (4. – 6. měsíc), předkládá se do 15-ti kalendářních dnů od ukončeného monitorovacího obdob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Další průběžné monitorovací zprávy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– nejméně jednou za každých 6. měsíců realizace projektu, předkládá se do 30-ti kalendářních dnů od ukončeného monitorovacího období. V případě domluvy s kontaktní osobou je možné předložit </a:t>
            </a: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„mimořádnou monitorovací zprávu“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za kratší sledované obdob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Závěrečná monitorovací zprávy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– předkládá se do 2 měsíců po ukončení realizace projekt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Náležitosti monitorovacích zprá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Monitorovací zprávy (průběžné, mimořádné závěrečná) se skládají ze 2 částí + příloh k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1. část v Benefit 7+ a 2. část MZ ve Word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přílohy k finanční čá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2. část MZ a přílohy ke stažení na http://www.esfcr.cz/folder/4968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Žádost o platbu musí být předložena vždy, pokud v daném monitorovacím období realizoval příjemce způsobilé vý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Žádost o platbu nelze předložit samostatně bez monitorovací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ovinnost archivace MZ a žádostí o platbu příjemc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Náležitosti monitorovacích zprá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Každá monitorovací zpráva musí být doložena jak v listinné tak v elektronické podob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růběžná MZ, Mimořádná MZ a ZM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 el. Podobě v Benefit 7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řílohy nutné nahrát do Benefit 7+ k monitorovací zprá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Rozhodující je datum doručení zprávy poskytovateli podpory nikoliv datum odeslání zásil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Průběžná MZ, Mimořádná MZ a ZMZ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40328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1. a 2. část monitorovací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1 .část Monitorovací 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Obsahuje následující úda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Informace o projektu a MZ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Indikátory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Výběrová řízení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Veřejná podpora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ublicita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Rozpočet projektu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Zdroje financování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Finanční plán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rioritní téma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Harmonogram realizace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spcAft>
                <a:spcPts val="601"/>
              </a:spcAft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říloh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odrobně viz. Předchozí prezentace Benefit 7+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eliska.dobra</cp:lastModifiedBy>
  <dcterms:modified xsi:type="dcterms:W3CDTF">2012-12-19T09:13:43Z</dcterms:modified>
  <cp:revision>410</cp:revision>
  <dc:subject/>
  <dc:title>Snímek 1</dc:title>
</cp:coreProperties>
</file>